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61B-EFED-433F-BA15-026004F0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A67-7312-4501-ACBE-6764E26D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E7B-0368-4E57-9937-96F9264F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A1A-8322-4F37-B14A-FE85D150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ED7-E1D5-4E84-94FC-16DF344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C02-E3E0-4740-85E9-82236C0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37-AA58-490F-A19D-9CBBDF9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725-06F6-4F00-8FC5-0DD2938C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1E9-CA43-421E-B9BF-3760887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3AD-D38C-402C-A485-3951545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C0E-C984-4C61-9904-EFF4F4F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893-A9E2-408B-8D5B-6CA11432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563-54FF-43D7-B0AF-36EFEFCC949D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740" y="1872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009800" y="723960"/>
            <a:ext cx="6362280" cy="4724280"/>
            <a:chOff x="100980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272700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193860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446688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20112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256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00980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496872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455292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13872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07176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30720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38712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80572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24928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264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2388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934640"/>
            <a:ext cx="11810880" cy="6229440"/>
            <a:chOff x="31775400" y="1093464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93464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5824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4928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4432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7748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8236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6060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13028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91096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486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6836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560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3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9"/>
          <p:cNvSpPr/>
          <p:nvPr/>
        </p:nvSpPr>
        <p:spPr>
          <a:xfrm>
            <a:off x="3436632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1"/>
          <p:cNvSpPr/>
          <p:nvPr/>
        </p:nvSpPr>
        <p:spPr>
          <a:xfrm>
            <a:off x="38099880" y="1743084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9"/>
          <p:cNvSpPr/>
          <p:nvPr/>
        </p:nvSpPr>
        <p:spPr>
          <a:xfrm>
            <a:off x="3781440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1"/>
          <p:cNvSpPr/>
          <p:nvPr/>
        </p:nvSpPr>
        <p:spPr>
          <a:xfrm>
            <a:off x="34670880" y="1743084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547960" y="4457880"/>
            <a:ext cx="2286000" cy="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5T03:33:45Z</dcterms:modified>
  <cp:revision>54</cp:revision>
  <dc:subject/>
  <dc:title>Slide 1</dc:title>
</cp:coreProperties>
</file>